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C0F9-3CC6-44CF-83C5-8CBC84A1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D76B-0F6C-4147-9FB9-007DDC4B13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A27-16B6-40D2-8DA4-3327C648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F48-A03B-4BF4-B53D-CE7A9FFB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23-4C20-4720-A374-513EFAC9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3B4-9F3A-41EB-A531-3F9E6CAE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C0DF-DE31-4981-A8E2-9BB3A87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AA41-F60A-4F72-8BDF-6E9667B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6B4-1EA8-4618-B49A-299E3D8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475B-3702-494E-8654-A6FD54EA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C9D-BEF2-4B24-B757-773C2453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5B42-E154-4FA9-9B13-9207B60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132-FFE8-41A2-96AB-C78674C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A46-5691-437E-9DC9-14B4B784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EE55-0D5E-4F85-A6AA-91180FA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2A34-3E39-4AD9-9D74-1619E204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E1D-83F1-4D17-8CA1-05109E3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790-2999-477A-AB44-989FD34B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A421-31C1-44EB-804A-CAD6CFCA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0A1-5BD2-42D1-8599-14E10AD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026-ECC6-4463-AF91-B4CAFAB7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E83-9074-4CED-B86C-E0C760F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53E-3A45-4746-BF57-1AC4A54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F66-BE01-441D-B984-9089C3C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613-DF88-4C15-8A90-275E59B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0B7-0B17-4B74-A48B-C9D9B860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BEE-2E03-4B2A-A55F-9883B272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C7C-7854-4FA5-86CC-4471EF6B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05740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s entrevistas etnográficas como herramienta en el aprendizaje de la cultura</a:t>
            </a:r>
            <a:br>
              <a:rPr sz="4400"/>
            </a:b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. Blair Batema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gham Young University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Resultados del proyect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estionamiento de estereotipos e ideas falsas sobre las culturas hispan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eo de viajar, estudiar, o vivir en un país hispanohabla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atía por miembros de culturas hispan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mistad con individuos hispan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ocimiento de la validez de diferentes prácticas y perspectivas cultur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iencia de su propia cultu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Ideas para implementar un proyecto de entrevistas al nivel K-12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estudiantes pueden entrevistar a nativos, bien individualmente o en pare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aestro puede ayudar a los estudiantes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ntrar alguien que entrevis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r las preguntas de ante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 hacer entrevistas por Sk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serie de entrevistas con una misma persona es mejor que solo u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7"/>
          <a:stretch/>
        </p:blipFill>
        <p:spPr>
          <a:xfrm>
            <a:off x="6459480" y="5094360"/>
            <a:ext cx="266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reguntas sobre temas específicos (en lugar de una pregunta más general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famili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ábleme un poco de su fami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comid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suele Ud. comer por la mañana/la tarde/la noche? ¿Qué factores influyen en la comida que co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el tiempo libre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le gusta hacer en su tiempo libre? ¿Cuándo lo hace? ¿Dónde? ¿Con quién(es)? ¿Por qué le gusta esa activ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vida contemporáne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cambios ha observado en España durante su vi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9298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Ventajas del uso de entrevistas etnográficas en el aprendizaje sobre una cultur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fesor deja su papel de experto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 aprenden directamente de alguien de dentro de la cultu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 se comprometen a pasar tiempo conociendo a la pers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, por contraste, también aprenden sobre su propia c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articipación activa en la interacción                 ayuda a superar las barreras de actitud          neg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Volviendo a los objetivos . . .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son entrevistas etnográf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se hace una entrevista etnográf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uáles son las ventajas de las entrevistas etnográficas en el aprendizaje de cultur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podría Ud. implementar las entrevistas etnográf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Image credi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2: Artmaker. (2011, 4 August). Magic carpet. Open Clip Art. Retrieved from http://openclipart.org/detail/153547/magic-carpet-by-artmak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5: Subhashish Panigrahi. (2013, 6 August). Vishnu Vardhan in conversation with Iolanda Pensa regarding Wikimedia India, GLAM initiatives at WikiSym, Hong Kong. Wikimedia Commons. Creative Commons Attribution-Share Alike 3.0 Unported license. Retrieved from http://commons.wikimedia.org/wiki/File:Vishnu_Vardhan_in_conversation_with_Iolanda_Pensa_regarding_Wikimedia_India,_GLAM_initiatives_at_WikiSym,_Hong_Kong.jp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9: Cesere, Angela J. (2013, 21 February). Conversation with Dean Miranda at the Dow Commons. Flickr. Creative Commons Attribution 2.0 Generic license. Retrieved from https://www.flickr.com/photos/snre/8510480598/in/photostream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11: U.S. Department of Education. (2009, April 8). _JMH8340 (1). Creative Commons Attribution 2.0 Generic license. Retrieved from https://www.flickr.com/photos/departmentofed/9607323677/in/photostream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502200"/>
            <a:ext cx="7409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0663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supone que el estudio del español resultará en actitudes positivas por parte de los estudiantes hacia las culturas hispa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agic-Carpet-Ride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-Another-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yndrom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investigaciones han comprobado que las actitudes positivas no son un producto automático del estudio de un idio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2514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Comentarios de estudiantes universitarios de 2</a:t>
            </a:r>
            <a:r>
              <a:rPr b="0" lang="en-US" sz="2800" spc="-1" strike="noStrike" baseline="30000">
                <a:solidFill>
                  <a:srgbClr val="cc66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año de Español sobre su clase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weakest aspect [of the course] was having to learn culture. I, personally, would improve the class by teaching more of the language and not as much, if any, culture.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nding a lot more time on the grammar and making sure it is understood would help a lot. It’s great learning the culture, but I came to learn how to speak, listen, and write Spanish!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 feel like the concentration on culture severely detracted from my learning of the language (and I pay to learn language).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Las entrevistas etnográficas como herramienta para promover actitudes positivas hacia las otras cultur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de esta presen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ar qué son las entrevistas etnográf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ar las ventajas de las entrevistas etnográficas en el aprendizaje de la c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erir ideas para un proyecto de entrevistas etnográficas con su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rse para realizar entrevistas en Españ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¿Qué es la Etnografía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metodología de investigación que se originó desde el campo de la Antrop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 de la Etnografía: Describir una cultura desde el punto de vista de los integrantes de la cul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de las herramientas de                         la Etnografía: las entrevistas          etnográf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4"/>
          <a:stretch/>
        </p:blipFill>
        <p:spPr>
          <a:xfrm>
            <a:off x="6197760" y="464832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a entrevista etnográfica: Proces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suele comenzar con una pregunta general (p.ej., “¿Cómo se siente Ud. como argentino que vive en los EE.UU.?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continúa con preguntas de seguimiento basadas en las respuestas anteri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y que motivar a la persona a hab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ar y dar tiempo para las respue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tenerse en el tema hasta que se ag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dir clarificación cuando no se enti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r o reformular lo que la persona ha dicho para asegurar que se ha comprend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Documents and Settings\localuser\My Documents\Blair\Culture Workshops\Interaction with Natives\Ethnographic interview graphic.tif"/>
          <p:cNvPicPr/>
          <p:nvPr/>
        </p:nvPicPr>
        <p:blipFill>
          <a:blip r:embed="rId1"/>
          <a:stretch/>
        </p:blipFill>
        <p:spPr>
          <a:xfrm>
            <a:off x="2286000" y="685800"/>
            <a:ext cx="48769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3733920" y="3048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El proyecto de entrevistas que hicieron mis estudiantes en la Universidad de Minnesot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í a los estudiantes en parej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da pareja tenía que encontrar a un nativo que entrevist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eñé una lección sobre como realizar una entrevista etnográf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estudiantes hicerion tres entrevistas y entregaron una reflexión escrita después de cada entrevis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estudiantes resumieron lo que                            aprendieron del proyecto e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a presentación o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 trabajo escri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8"/>
          <a:stretch/>
        </p:blipFill>
        <p:spPr>
          <a:xfrm>
            <a:off x="5981760" y="4753080"/>
            <a:ext cx="3162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9:52:34Z</dcterms:created>
  <dc:creator>Blair Bateman</dc:creator>
  <dc:description/>
  <dc:language>en-US</dc:language>
  <cp:lastModifiedBy>Blair Bateman</cp:lastModifiedBy>
  <dcterms:modified xsi:type="dcterms:W3CDTF">2014-06-26T21:16:35Z</dcterms:modified>
  <cp:revision>43</cp:revision>
  <dc:subject/>
  <dc:title>Ethnographic Interviews in the Foreign Languag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